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1227-D6F5-4299-8424-7669AF440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363E-A87D-4112-AF2B-DCB717624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DB94-E93A-41D3-BD9F-13E362183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4A1E-5D6D-462B-898A-745ED2A23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F8F-A2E6-41B5-8603-67E40879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7CAB-5988-447C-B48B-B79AE2C4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9B85-1994-4547-92C8-59BE160C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82D-2730-46B8-818A-83D461D7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0BE5-0B33-4823-8C09-DB3D1EB2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4186-4708-4405-985E-AF226B48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40C0-993F-4B5F-BBDD-87F3DF68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CDE-1F3A-4B70-B838-006C8B0D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F6BD-20C4-4070-9B7C-5A3F07DC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530-D2DC-4CC3-937C-E2225922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32E-1811-4147-8767-4C9031A3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C1C2-9DCE-45A7-9563-E38495A1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37D1-20E0-4138-BECA-BC472037C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hyperlink" Target="http://www.imdb.com/rg/mediaindex/thumbnail/media/rm1416206336/nm0000069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imdb.com/rg/mediaindex/thumbnail/media/rm1503631360/nm0000054" TargetMode="External"/><Relationship Id="rId9" Type="http://schemas.openxmlformats.org/officeDocument/2006/relationships/image" Target="../media/image4.jpeg"/><Relationship Id="rId10" Type="http://schemas.openxmlformats.org/officeDocument/2006/relationships/image" Target="../media/image2.jpeg"/><Relationship Id="rId11" Type="http://schemas.openxmlformats.org/officeDocument/2006/relationships/image" Target="../media/image5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6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hyperlink" Target="http://www.time.com/time/2003/jfk/photoessay/5.html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www.time.com/time/2003/jfk/photoessay/2.html" TargetMode="External"/><Relationship Id="rId8" Type="http://schemas.openxmlformats.org/officeDocument/2006/relationships/image" Target="../media/image8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hyperlink" Target="http://www.time.com/time/2003/jfk/photoessay/5.html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image" Target="../media/image1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visit with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ady Seymou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228600" y="685800"/>
            <a:ext cx="1295280" cy="1752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e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Anne (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Ann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An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2170080" y="2438280"/>
            <a:ext cx="34452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124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429000"/>
            <a:ext cx="16002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13, 17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4419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 (Showing 3 of 46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1" descr="Frank Sinatra, portrait for Kings Go Forth, 1958.&#10;Vintage silver gelatin, 7x13.5, signed. $900&#10;Â© 1978 Bill Avery&#10;MPTV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5800" y="4495680"/>
            <a:ext cx="349200" cy="4572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2"/>
          <p:cNvSpPr/>
          <p:nvPr/>
        </p:nvSpPr>
        <p:spPr>
          <a:xfrm>
            <a:off x="0" y="49528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ih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4" descr="c. 1953&#10;Photo by Frank Powolny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219320" y="4495680"/>
            <a:ext cx="330120" cy="457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3"/>
          <p:cNvSpPr/>
          <p:nvPr/>
        </p:nvSpPr>
        <p:spPr>
          <a:xfrm>
            <a:off x="457200" y="4952880"/>
            <a:ext cx="838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ady Seymo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reparing to visit with Lady Seymou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0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4"/>
          <p:cNvSpPr/>
          <p:nvPr/>
        </p:nvSpPr>
        <p:spPr>
          <a:xfrm>
            <a:off x="1066680" y="495288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orge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ppy Birthd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13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8" descr="President Kennedy, head and shoulders portrait photograph, looking up. Photograph distributed by the White House. "/>
          <p:cNvPicPr/>
          <p:nvPr/>
        </p:nvPicPr>
        <p:blipFill>
          <a:blip r:embed="rId10"/>
          <a:stretch/>
        </p:blipFill>
        <p:spPr>
          <a:xfrm>
            <a:off x="2170080" y="3809880"/>
            <a:ext cx="344520" cy="533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9" descr="Robert F. Kennedy - Photo"/>
          <p:cNvPicPr/>
          <p:nvPr/>
        </p:nvPicPr>
        <p:blipFill>
          <a:blip r:embed="rId11"/>
          <a:stretch/>
        </p:blipFill>
        <p:spPr>
          <a:xfrm>
            <a:off x="2133720" y="3244680"/>
            <a:ext cx="380880" cy="4129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appy Birthday to m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13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1" descr="President Kennedy, head and shoulders portrait photograph, looking up. Photograph distributed by the White House. "/>
          <p:cNvPicPr/>
          <p:nvPr/>
        </p:nvPicPr>
        <p:blipFill>
          <a:blip r:embed="rId12"/>
          <a:stretch/>
        </p:blipFill>
        <p:spPr>
          <a:xfrm>
            <a:off x="2170080" y="4495680"/>
            <a:ext cx="344520" cy="533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arguing with </a:t>
            </a: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…. ag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10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4" descr="President Kennedy, head and shoulders portrait photograph, looking up. Photograph distributed by the White House. "/>
          <p:cNvPicPr/>
          <p:nvPr/>
        </p:nvPicPr>
        <p:blipFill>
          <a:blip r:embed="rId13"/>
          <a:stretch/>
        </p:blipFill>
        <p:spPr>
          <a:xfrm>
            <a:off x="2170080" y="5181480"/>
            <a:ext cx="344520" cy="533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Wants eel pie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8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6" descr="President Kennedy, head and shoulders portrait photograph, looking up. Photograph distributed by the White House. "/>
          <p:cNvPicPr/>
          <p:nvPr/>
        </p:nvPicPr>
        <p:blipFill>
          <a:blip r:embed="rId14"/>
          <a:stretch/>
        </p:blipFill>
        <p:spPr>
          <a:xfrm>
            <a:off x="2170080" y="5791320"/>
            <a:ext cx="344520" cy="533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</a:t>
            </a: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asn’t arrest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9" descr="Robert F. Kennedy - Photo"/>
          <p:cNvPicPr/>
          <p:nvPr/>
        </p:nvPicPr>
        <p:blipFill>
          <a:blip r:embed="rId15"/>
          <a:stretch/>
        </p:blipFill>
        <p:spPr>
          <a:xfrm>
            <a:off x="152280" y="4495680"/>
            <a:ext cx="3812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2"/>
          <p:cNvSpPr/>
          <p:nvPr/>
        </p:nvSpPr>
        <p:spPr>
          <a:xfrm>
            <a:off x="3276720" y="2666880"/>
            <a:ext cx="3124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057400" y="2514600"/>
            <a:ext cx="14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reparing to visit with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ady Seymou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e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Anne (3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Ann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An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1">
            <a:hlinkClick r:id="rId3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152280" y="31240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0"/>
          <p:cNvSpPr/>
          <p:nvPr/>
        </p:nvSpPr>
        <p:spPr>
          <a:xfrm>
            <a:off x="152280" y="3429000"/>
            <a:ext cx="16002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13, 17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52280" y="4419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2"/>
          <p:cNvSpPr/>
          <p:nvPr/>
        </p:nvSpPr>
        <p:spPr>
          <a:xfrm>
            <a:off x="152280" y="41911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4"/>
          <p:cNvSpPr/>
          <p:nvPr/>
        </p:nvSpPr>
        <p:spPr>
          <a:xfrm>
            <a:off x="2133720" y="1905120"/>
            <a:ext cx="3124080" cy="6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13, 17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New York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7575d1"/>
                </a:solidFill>
                <a:latin typeface="Arial"/>
              </a:rPr>
              <a:t>Elihu 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5"/>
          <p:cNvSpPr/>
          <p:nvPr/>
        </p:nvSpPr>
        <p:spPr>
          <a:xfrm>
            <a:off x="2133720" y="27432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Knitting,  Needle Point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Bach, Mozart, Hand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What are movies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ything written by Shakespe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6" descr="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4572000"/>
            <a:ext cx="52380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7"/>
          <p:cNvSpPr/>
          <p:nvPr/>
        </p:nvSpPr>
        <p:spPr>
          <a:xfrm>
            <a:off x="762120" y="4572000"/>
            <a:ext cx="83808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152280" y="44197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9" descr="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5334120"/>
            <a:ext cx="685800" cy="4348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0"/>
          <p:cNvSpPr/>
          <p:nvPr/>
        </p:nvSpPr>
        <p:spPr>
          <a:xfrm>
            <a:off x="838080" y="533412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1"/>
          <p:cNvSpPr/>
          <p:nvPr/>
        </p:nvSpPr>
        <p:spPr>
          <a:xfrm>
            <a:off x="2057400" y="3657600"/>
            <a:ext cx="14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2"/>
          <p:cNvSpPr/>
          <p:nvPr/>
        </p:nvSpPr>
        <p:spPr>
          <a:xfrm>
            <a:off x="3200400" y="3809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3"/>
          <p:cNvSpPr/>
          <p:nvPr/>
        </p:nvSpPr>
        <p:spPr>
          <a:xfrm>
            <a:off x="2133720" y="388620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user hasn’t completed this section of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What’s a phone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President Kennedy, head and shoulders portrait photograph, looking up. Photograph distributed by the White House. "/>
          <p:cNvPicPr/>
          <p:nvPr/>
        </p:nvPicPr>
        <p:blipFill>
          <a:blip r:embed="rId9"/>
          <a:stretch/>
        </p:blipFill>
        <p:spPr>
          <a:xfrm>
            <a:off x="228600" y="685800"/>
            <a:ext cx="1295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685800" y="3505320"/>
            <a:ext cx="4038480" cy="167616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685800" y="3505320"/>
            <a:ext cx="2895480" cy="167616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e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685800" y="1752480"/>
            <a:ext cx="7467480" cy="152424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Ann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3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1"/>
          <p:cNvSpPr/>
          <p:nvPr/>
        </p:nvSpPr>
        <p:spPr>
          <a:xfrm>
            <a:off x="685800" y="327672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ne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3 Photo Alb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3"/>
          <p:cNvSpPr/>
          <p:nvPr/>
        </p:nvSpPr>
        <p:spPr>
          <a:xfrm>
            <a:off x="762120" y="47242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4"/>
          <p:cNvSpPr/>
          <p:nvPr/>
        </p:nvSpPr>
        <p:spPr>
          <a:xfrm>
            <a:off x="1828800" y="47242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5"/>
          <p:cNvSpPr/>
          <p:nvPr/>
        </p:nvSpPr>
        <p:spPr>
          <a:xfrm>
            <a:off x="3657600" y="487692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6" descr="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657600"/>
            <a:ext cx="75564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7" descr="1"/>
          <p:cNvPicPr/>
          <p:nvPr/>
        </p:nvPicPr>
        <p:blipFill>
          <a:blip r:embed="rId5"/>
          <a:stretch/>
        </p:blipFill>
        <p:spPr>
          <a:xfrm>
            <a:off x="1905120" y="3809880"/>
            <a:ext cx="990360" cy="6271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reparing to visit with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ady Seymou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1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204840" y="533520"/>
            <a:ext cx="492120" cy="761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3" descr="2"/>
          <p:cNvPicPr/>
          <p:nvPr/>
        </p:nvPicPr>
        <p:blipFill>
          <a:blip r:embed="rId7"/>
          <a:stretch/>
        </p:blipFill>
        <p:spPr>
          <a:xfrm>
            <a:off x="941400" y="1905120"/>
            <a:ext cx="933480" cy="1139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5" descr="5"/>
          <p:cNvPicPr/>
          <p:nvPr/>
        </p:nvPicPr>
        <p:blipFill>
          <a:blip r:embed="rId8"/>
          <a:stretch/>
        </p:blipFill>
        <p:spPr>
          <a:xfrm>
            <a:off x="2255760" y="1905120"/>
            <a:ext cx="1047960" cy="1139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7" descr="oaththp"/>
          <p:cNvPicPr/>
          <p:nvPr/>
        </p:nvPicPr>
        <p:blipFill>
          <a:blip r:embed="rId9"/>
          <a:stretch/>
        </p:blipFill>
        <p:spPr>
          <a:xfrm>
            <a:off x="3505320" y="1967040"/>
            <a:ext cx="1371600" cy="1028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President Kennedy, head and shoulders portrait photograph, looking up. Photograph distributed by the White House. "/>
          <p:cNvPicPr/>
          <p:nvPr/>
        </p:nvPicPr>
        <p:blipFill>
          <a:blip r:embed="rId10"/>
          <a:stretch/>
        </p:blipFill>
        <p:spPr>
          <a:xfrm>
            <a:off x="3733920" y="3657600"/>
            <a:ext cx="739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4-30T02:51:33Z</dcterms:modified>
  <cp:revision>27</cp:revision>
  <dc:subject/>
  <dc:title>Profile</dc:title>
</cp:coreProperties>
</file>